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DD1-B406-4D90-A956-1C40CCDA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E04-62DA-4A4D-AA6B-3BA40785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215-6198-4B5F-A880-CC2D0836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C73-F0D0-4B29-88C9-3F0C6D21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A97-888D-4649-9D34-3CC21C50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BD3-34F1-4518-97F2-C4FBA809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164-2248-4481-9CD0-EA7401CF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397-88C4-45EC-8F46-45E330FD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C43-18DE-47D0-95B6-A79B5222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006-5126-4B4A-9D0C-71C3F74E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48C-3785-4AD7-BF25-C28718E7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6C8-D237-46C4-9477-E7D7F951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912C-98A7-421F-B936-D01BACDD949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0440" y="692280"/>
            <a:ext cx="5183280" cy="7345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4581360"/>
            <a:ext cx="2376360" cy="10994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6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276640"/>
            <a:ext cx="1366920" cy="6426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620640"/>
            <a:ext cx="1582920" cy="642600"/>
          </a:xfrm>
          <a:prstGeom prst="rect">
            <a:avLst/>
          </a:prstGeom>
          <a:solidFill>
            <a:srgbClr val="ff66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0" y="0"/>
            <a:ext cx="1728720" cy="642600"/>
          </a:xfrm>
          <a:prstGeom prst="rect">
            <a:avLst/>
          </a:prstGeom>
          <a:solidFill>
            <a:srgbClr val="ff3399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692280"/>
            <a:ext cx="1368720" cy="642600"/>
          </a:xfrm>
          <a:prstGeom prst="rect">
            <a:avLst/>
          </a:prstGeom>
          <a:solidFill>
            <a:srgbClr val="cc00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3080" y="2997360"/>
            <a:ext cx="1296720" cy="703440"/>
          </a:xfrm>
          <a:prstGeom prst="rect">
            <a:avLst/>
          </a:prstGeom>
          <a:solidFill>
            <a:srgbClr val="33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31400" y="0"/>
            <a:ext cx="0" cy="68580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0:18:11Z</dcterms:created>
  <dc:creator>AlDavis</dc:creator>
  <dc:description/>
  <dc:language>en-US</dc:language>
  <cp:lastModifiedBy>AlDavis</cp:lastModifiedBy>
  <dcterms:modified xsi:type="dcterms:W3CDTF">2007-08-14T00:20:01Z</dcterms:modified>
  <cp:revision>2</cp:revision>
  <dc:subject/>
  <dc:title>Slide 1</dc:title>
</cp:coreProperties>
</file>